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FA1-D20F-4570-B3F2-6A441F14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403-CC4B-4FE0-AC15-2BE7696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69D-579F-44BE-8DDB-D4299F56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7AC-DEED-46C0-BAEE-90178D4C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C43-8551-45B5-ACD1-A773AEEE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D38-0894-4F1F-A835-12581213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343-D629-4E63-86EE-10A259B4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446-F108-40C7-877E-D21CE058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FC8-47B1-4517-A5FD-73B14965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11E-BE0A-47C6-86AB-BF3DA54E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C00-8BFA-4C57-A6E0-1C65820C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FC8-8659-4814-8AF7-E622657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C7B7-CF03-4658-AA35-069E4B9E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6lu.cn/id10/shucai/nangua/html/image2.html" TargetMode="External"/><Relationship Id="rId2" Type="http://schemas.openxmlformats.org/officeDocument/2006/relationships/hyperlink" Target="http://www.6lu.cn/id10/shucai/nangua/html/image2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6lu.cn/id10/shucai/nangua/html/image8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276720"/>
            <a:ext cx="7543800" cy="1617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Thanksgiving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66680"/>
            <a:ext cx="7543800" cy="237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感 恩 節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lack-and-white-turkey%20(7)" descr="黑白火鸡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04920"/>
            <a:ext cx="1905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火雞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835200"/>
            <a:ext cx="9144000" cy="5187600"/>
            <a:chOff x="0" y="835200"/>
            <a:chExt cx="9144000" cy="5187600"/>
          </a:xfrm>
        </p:grpSpPr>
        <p:sp>
          <p:nvSpPr>
            <p:cNvPr id="47" name=""/>
            <p:cNvSpPr/>
            <p:nvPr/>
          </p:nvSpPr>
          <p:spPr>
            <a:xfrm>
              <a:off x="0" y="835200"/>
              <a:ext cx="9144000" cy="51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835200"/>
              <a:ext cx="43369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2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" name="nangua_B" descr="南瓜[1]提示：点击图片可以进入下一页&gt;&gt;&gt;&gt;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0"/>
            <a:ext cx="6747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9480"/>
            <a:ext cx="2362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南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480960"/>
            <a:ext cx="9144000" cy="5700600"/>
            <a:chOff x="0" y="480960"/>
            <a:chExt cx="9144000" cy="5700600"/>
          </a:xfrm>
        </p:grpSpPr>
        <p:sp>
          <p:nvSpPr>
            <p:cNvPr id="52" name=""/>
            <p:cNvSpPr/>
            <p:nvPr/>
          </p:nvSpPr>
          <p:spPr>
            <a:xfrm>
              <a:off x="0" y="480960"/>
              <a:ext cx="9144000" cy="51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80960"/>
              <a:ext cx="5753160" cy="57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36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nangua_H" descr="南瓜[7]提示：点击图片可以进入下一页&gt;&gt;&gt;&gt;"/>
          <p:cNvPicPr/>
          <p:nvPr/>
        </p:nvPicPr>
        <p:blipFill>
          <a:blip r:embed="rId2"/>
          <a:stretch/>
        </p:blipFill>
        <p:spPr>
          <a:xfrm>
            <a:off x="3429000" y="0"/>
            <a:ext cx="4784760" cy="6378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22860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南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835200"/>
            <a:ext cx="9144000" cy="5187600"/>
            <a:chOff x="0" y="835200"/>
            <a:chExt cx="9144000" cy="5187600"/>
          </a:xfrm>
        </p:grpSpPr>
        <p:sp>
          <p:nvSpPr>
            <p:cNvPr id="57" name=""/>
            <p:cNvSpPr/>
            <p:nvPr/>
          </p:nvSpPr>
          <p:spPr>
            <a:xfrm>
              <a:off x="0" y="835200"/>
              <a:ext cx="9144000" cy="51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835200"/>
              <a:ext cx="231768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yumi_O" descr="玉米[14]提示：点击图片可以进入下一页&gt;&gt;&gt;&gt;"/>
          <p:cNvPicPr/>
          <p:nvPr/>
        </p:nvPicPr>
        <p:blipFill>
          <a:blip r:embed="rId1"/>
          <a:stretch/>
        </p:blipFill>
        <p:spPr>
          <a:xfrm>
            <a:off x="1828800" y="533520"/>
            <a:ext cx="7010280" cy="6132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04920"/>
            <a:ext cx="25146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玉米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8:54:33Z</dcterms:created>
  <dc:creator>Cheung</dc:creator>
  <dc:description/>
  <dc:language>en-US</dc:language>
  <cp:lastModifiedBy>Cheung</cp:lastModifiedBy>
  <dcterms:modified xsi:type="dcterms:W3CDTF">2009-12-14T07:12:53Z</dcterms:modified>
  <cp:revision>4</cp:revision>
  <dc:subject/>
  <dc:title>PowerPoint Presentation</dc:title>
</cp:coreProperties>
</file>